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6AC-8728-4C7F-ADF2-81C8DE03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7FF-B8DA-44C9-9E2D-F57095FC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C8A-F86F-41BD-A95A-8623077A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3CB-AD78-4B3B-96B6-BA4FCEEE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08C-8FA5-4D52-B4B3-C8B3F415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88AE-C2AC-4519-B972-2922C63F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930D-53A7-40E8-BF5C-20B8452E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796-AD00-414F-8C17-BB542301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C01-45AF-4CD8-99E2-0B62CCB3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391-3864-4A71-AD8A-1DCF198B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931-10C6-4018-A705-F22CDCDA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5D7-7D48-43BB-ABF2-EFC64CEF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AB84-FE6B-4302-AF1F-94F1B8A1B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ly Source of all tha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the eternal W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Jesus Chr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easelessly breathing the Spir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cre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trust in God’s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isdo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ully revealed in the human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esent to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Spirit’s wo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Church and beyo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that God is call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hole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a future of justice and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hare in Christ’s risen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mit ourselves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rece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ing reign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the only God, Three yet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all honour and glory and pra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08:39Z</dcterms:created>
  <dc:creator>Anon Anon</dc:creator>
  <dc:description/>
  <dc:language>en-US</dc:language>
  <cp:lastModifiedBy>Anon Anon</cp:lastModifiedBy>
  <dcterms:modified xsi:type="dcterms:W3CDTF">2005-08-09T05:03:36Z</dcterms:modified>
  <cp:revision>7</cp:revision>
  <dc:subject/>
  <dc:title>PowerPoint Presentation</dc:title>
</cp:coreProperties>
</file>